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C03-75B9-4750-8079-C0F9E88D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C49-E89B-4FC7-ABE1-1EEB882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401-56E9-4311-B1A0-1ADE5890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C11-1E0C-4BCC-8F9B-76294814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D9D-3F99-43E9-AB97-0C35A91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626-A4F0-495B-95B4-7F9803BA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E31-736F-437C-9C85-863017E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373-EB51-45FA-8A8D-1834F57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90B-830F-40B8-B8D8-E120B47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AF9-AAF3-462C-9A29-5F6E50E4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0A6-F102-41DB-8E05-81D8D8E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28E-7FBD-4F8E-8222-3432630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4CED-8A21-472D-AF19-B7681797D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5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10:27Z</dcterms:created>
  <dc:creator>d003179</dc:creator>
  <dc:description>EP Sample Development Landscape.ppt</dc:description>
  <cp:keywords>Development Landscape</cp:keywords>
  <dc:language>en-US</dc:language>
  <cp:lastModifiedBy>d003179</cp:lastModifiedBy>
  <dcterms:modified xsi:type="dcterms:W3CDTF">2003-06-24T13:13:12Z</dcterms:modified>
  <cp:revision>1</cp:revision>
  <dc:subject/>
  <dc:title>Sample Development Landscape</dc:title>
</cp:coreProperties>
</file>